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9.png" ContentType="image/png"/>
  <Override PartName="/ppt/media/image13.wmf" ContentType="image/x-wmf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224-06AE-49B3-B460-5CF39E87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C89-4901-482B-9709-4989EE76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601-670B-4064-B0FC-383624A5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8CE-E681-4066-9FF7-0532C025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3B92-1C88-42F9-9C03-123454B0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941B-4451-409B-AE08-622B9AFA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A318-C38E-4727-A269-B258E852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784A-0C9F-41C8-A6D0-C8D1F0CD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9047-76A2-42FD-B294-E1E47A8F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70B8-8EA4-416E-89BA-7F35F15A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6B9B-74DC-4624-ACD7-A6CC1836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CBB9-3B2E-4BDF-B61D-7BE72FCF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080E-8D98-407A-A35B-2EF11FAC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D5B9-95C9-4F17-AA20-82A53F39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2618-039E-4BE1-A48C-63300662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9E1D-D921-4283-886A-B428460A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B285-80D2-4E68-9F4D-9A429C87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236F-7D6D-4DEA-9F06-64A9A28F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C42A-46F9-4288-9E2E-6AFDB849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AE7-2510-422B-A8E8-10BEF4D7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39D-AF5D-403D-9CB3-B282C626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F7A-C443-426B-8D7D-D1FCA05E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26F-C355-4D93-B964-F5593308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676-79EE-4FC2-A8B7-D610685C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7742-A82B-4466-AA3F-D105D7AE00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A198-AE9D-42CF-BCE8-FF8FA401C3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10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mal Phys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emperature Sca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mometers can be calibrated by placing them in thermal contact with an environment that remains at constant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 could be mixture of ice and water in thermal equilibr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commonly used is water and steam in thermal equilibr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elsius Sca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erature of an ice-water mixture is defined as 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º 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reezing poi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erature of a water-steam mixture is defined as 1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º 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This i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boiling poi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of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Distance between these points is divided into 100 segments or degr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as Thermome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erature readings are nearly independent of the g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sure varies with temperature when maintaining a constant volu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83080" y="2017800"/>
            <a:ext cx="3333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Kelvin Sca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pressure of a gas goes to zero, its temperature is –273.1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º 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This temperature i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absolute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This is the zero point of the Kelvin sc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73.1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º C = 0 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To convert: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  <a:ea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 – 273.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The size of the degree in the Kelvin scale is the same as the size of a Celsius deg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-Temperature Grap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407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gases extrapolate to the same temperature at zero pressure (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hat pressure do we mean her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temperature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bsolute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45120" y="2644920"/>
            <a:ext cx="380988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dern Definition of Kelvin Sca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d in terms of two po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reed upon by International Committee on Weights and Measures in 195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point is absolute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point i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riple poi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ple point is the single point where water can exist as solid, liquid, and g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gle temperature and pres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urs at 0.0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º C and P = 4.58 mm H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dern Definition of Kelvin Scale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emperature of the triple point on the Kelvin scale is 273.16 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fore, the current definition of of the Kelvin is defined a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/273.16 of the temperature of the triple point of 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me Kelvi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emperatur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representative Kelvin temper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, this scale is logarithm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olute zero has never been reach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391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ahrenheit Sca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common scale used in the 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mperature of the freezing point is 3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mperature of the boiling point is 21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180 divisions between the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mparing Temperature Sca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09680" y="2008080"/>
            <a:ext cx="44802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Verdana"/>
              </a:rPr>
              <a:t>Recovering a Submerged Statue</a:t>
            </a:r>
            <a:endParaRPr b="0" lang="en-US" sz="4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70 kg ancient statue of Mr. Gandell lies at the bottom of the ocean. The volume of the statue is 3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nsity of seawater is  1.02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much force is needed to lift i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verting Among Temperature Sca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057400" y="1981080"/>
          <a:ext cx="37702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81080"/>
                    <a:ext cx="3770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rmal Expa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hermal expansion of an object is a consequence of the change in the average separation between its constituent atoms or molec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ordinary temperatures, molecules vibrate with a small amplitu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temperature increases, the amplitude incre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auses the overall object as a whole to exp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near Expa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small changes in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the coefficient of linear expansion, depends on the materi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table 10.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are average coefficients, they can vary somewhat with temper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828800" y="2514600"/>
          <a:ext cx="688356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14600"/>
                    <a:ext cx="68835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00200" y="32004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Applications of Thermal Expansion – Bimetallic Strip</a:t>
            </a:r>
            <a:endParaRPr b="0" lang="en-US" sz="4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mos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imetallic str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metals expand differ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ce they have different coefficients of expa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97040" y="2017800"/>
          <a:ext cx="67420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2017800"/>
                    <a:ext cx="67420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ea Expa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dimensions expand according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coefficient of area expa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828800" y="3429000"/>
          <a:ext cx="274320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429000"/>
                    <a:ext cx="274320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138720" y="2017800"/>
            <a:ext cx="1820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olume Expa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ree dimensions exp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liquids, the coefficient of volume expansion is given in the 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209680" y="2666880"/>
                <a:ext cx="35830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V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Δ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id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pplications of Thermal Expa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yrex Gla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mal stresses are smaller than for ordinary g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a lev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ming the oceans will increase the volume of the oce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nusual Behavior of Wa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4114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temperature of water increases from 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ºC to 4 ºC, it contracts and its density in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Above 4 ºC, water exhibits the expected expansion with increasing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Maximum density of water is 1000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at 4 º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306600" y="2017800"/>
            <a:ext cx="3524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deal Ga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as does not have a fixed volume or press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a container, the gas expands to fill the contain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gases at room temperature and pressure behave approximately as an ideal g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racteristics of an Ideal Ga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ion of atoms or molecules that move random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t no long-range force on one ano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particle is individually point-lik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pying a negligible volu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rmal Physic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mal physics is the study of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hese affect ma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’s convenient to express the amount of gas in a given volume in terms of the number of moles,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mole is the amount of the substance that contains as many particles as there are atoms in 12 g of carbon-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905120" y="3276720"/>
                <a:ext cx="27432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vogadro’s Numb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umber of particles in a mole is calle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vogadro’s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6.0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rticles / mo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d so that 12 g of carbon contains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ss of an individual atom can be calculate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362320" y="5486400"/>
                <a:ext cx="350496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o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vogadro’s Number and Mass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ss in grams of one Avogadro's number of an element is numerically the same as the mass of one atom of the element, expressed in atomic mass units, 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bon has a mass of 12 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 g of carbon consists of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oms of carb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lds for molecules, al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deal Gas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V = n R 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 i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niversal Gas Const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 = 8.31 J / mol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 = 0.0821 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m / mol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e equation of state for an ideal g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deal Gas Law, Alternative Ver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 V = N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oltzmann’s Const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R /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1.38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2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J/ 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 is the total number of molec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 = N /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 is the number of mo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 is the number of molec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Kinetic Theory of Gases – Assump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umber of molecules in the gas is large and the average separation between them is large compared to their dimen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lecules obey Newton’s laws of motion, but as a whole they move random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Kinetic Theory of Gases – Assumption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lecules interact only by short-range forces during elastic colli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lecules make elastic collisions with the w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gas under consideration is a pure substance, all the molecules are identic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of an Ideal Ga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essure is proportional to the number of molecules per unit volume and to the average translational kinetic energy of a molec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676520" y="4724280"/>
          <a:ext cx="2666880" cy="9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724280"/>
                    <a:ext cx="266688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145120" y="2187720"/>
            <a:ext cx="38098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essure is proportional to the number of molecules per unit volume and to the average translational kinetic energy of the molecu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sure can be increased 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ing the number of molecules per unit volume in the cont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ing the average translational kinetic energy of the molec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ing the temperature of the g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lecular Interpretation of Temperat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mperature is proportional to the average kinetic energy of the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otal kinetic energy is proportional to the absolute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666880" y="3276720"/>
                <a:ext cx="27432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90920" y="5811840"/>
                <a:ext cx="26668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rmal Physic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rned with the concepts of energy transfers between a system and its environment and the resulting temperature vari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storically, the development of thermodynamics paralleled the development of atomic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rns itself with the physical and chemical transformations of matter in all of its forms: solid, liquid, and g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Internal Energ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monatomic gas, the KE is the only type of energy the molecules can h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 i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ternal energ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the g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polyatomic gas, additional possibilities for contributions to the internal energy are rotational and vibrational energy in the molec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362320" y="2819520"/>
                <a:ext cx="17524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ed of the Molecul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ressed a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oot-mean-squa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rms) sp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a given temperature, lighter molecules move faster, on average, than heavier 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ghter molecules can more easily reach escape speed from the ear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209680" y="2895480"/>
                <a:ext cx="403884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R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me rms Spee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3248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xwell Distribu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ystem of gas at a given temperature will exhibit a variety of sp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speeds are of interes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prob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145120" y="2736720"/>
            <a:ext cx="380988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xwell Distribution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every ga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mp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&lt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av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&lt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the temperature rises, these three speeds shift to the r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otal area under the curve on the graph equals the total number of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,2,5,9,12,27,29,31,35,39,41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4,47,50,5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He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cess by which energy is exchanged between objects because of temperature differences i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jects are i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hermal contac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f energy can be exchanged between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hermal equilibri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xists when two objects in thermal contact with each other cease to exchange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Zeroth Law of Thermodynamic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objects A and B are separately in thermal equilibrium with a third object, C, then A and B are in thermal equilibrium with each ot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a definition of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35120" y="2017800"/>
            <a:ext cx="5067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emperature from the Zeroth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objects in thermal equilibrium with each other are at 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ame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Temperat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he property that determines whether or not an object is in thermal equilibrium with other obje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rmometer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d to measure the temperature of an object or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use of physical properties that change with temper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physical properties can be u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me of a liqui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ngth of a soli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ssure of a gas held at constant volu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me of a gas held at constant press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ectric resistance of a conduc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or of a very hot 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hermometers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mercury thermometer is an example of a common thermomet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level of the mercury rises due to thermal expan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erature can be defined by the height of the mercury colum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51360" y="2017800"/>
            <a:ext cx="2597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03:33:57Z</dcterms:created>
  <dc:creator>Marilyn Akins</dc:creator>
  <dc:description/>
  <dc:language>en-US</dc:language>
  <cp:lastModifiedBy>DCPS</cp:lastModifiedBy>
  <dcterms:modified xsi:type="dcterms:W3CDTF">2008-10-20T12:53:09Z</dcterms:modified>
  <cp:revision>18</cp:revision>
  <dc:subject/>
  <dc:title>Chapter 10</dc:title>
</cp:coreProperties>
</file>